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E15A-E90D-4E82-8B4F-22E09291E20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F4F7-072B-44A7-93F2-0F08180427E4}"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7D2A-4466-4B19-AC40-8C46ABA6BB6D}"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DD0D-7F33-4792-AAE5-2C338B5E23D4}"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2607-08FC-4F81-B628-456F6E98E847}"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D126-A9CB-4350-84E5-7EFC86A015B4}"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8810-94C5-431A-848C-E46C7E9C1BF7}"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0CD6-0B21-4BAC-878A-9D5CB197A64B}"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F0FA-2E14-4255-A48E-E9E030C01C66}"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1D37-B17A-4BFF-91E7-051DA7D23F6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05F0-E2B8-456B-B7D5-0B638046FA00}"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75F0-35F6-4530-969B-69D259E9275C}"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538D-8AE5-49EC-8864-0BAF1C974849}"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2C18-B75A-4BE1-A39D-E31C5FEB059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BAE5E-39F4-4F24-BF86-43CF0DB67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03D00-DEEF-411C-9DB2-184C83BCD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C8DE0-8DBD-490C-AF9E-36300847E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F3338-5FFB-41FD-9AB6-80E51AFBA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80F37-08B8-4D2C-BB4F-E666AAFBD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1C3A5-A6E1-4B1C-9338-59F39E433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DFE03-6B41-41D8-95F4-25108FDD3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DC7AF-7AE6-4C8B-8B8B-FE4548557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40B22-2595-49BD-962E-4E455E0EE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2F845-B491-40C6-A87E-0A5A7354A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2FF31-B1AB-4E02-AC1D-3757E8B9E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F97B1-6D47-4F91-93F9-17B6B7ABD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5503E-9C29-43CA-8A5B-0E5D151B1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4AA2A-75ED-47DF-B695-88B02CAEA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DA028-A474-4918-B205-B731A6462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0BBDA-B15A-4E2E-ABA5-A75F226EF4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0F6BC-0B68-4DB4-9803-ACF302D3D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C9D3E2-5205-460D-9569-0D35DBF8B4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567ED0-535F-4C95-9BAB-4684F64C49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3B2073-18D6-4F13-8FBE-0A80DD240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EE74E0-55AD-4112-B5C2-F130C94635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3C5F7F-DB7B-4BC4-9742-2584FCF45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E92AE-2D76-4F27-98AC-4B1083E04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83783-ADFE-4DB7-B02C-6C2029EC2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D002CF-B984-44DF-9375-EA2F71CBB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5334D-D3EC-47EA-B5FB-F4F7CBDC2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9EC7BB-94F6-4AC9-8443-5B13924DC9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22530-377D-495E-8908-5CE2E9A568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AE388C-32E4-4A10-A2DF-3360A4E403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2B2911-3654-4DC8-9D97-78CE09A66A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83AF78-9D2C-494B-8911-4C4F62D1A6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88565-8C37-4868-BFBB-201F02BB96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3683D-305F-4053-B013-6776F848E3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DBA14-FC60-4C90-808B-9F941F8C6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2B87FC-3F1C-4188-BD74-7443F052B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323539-9D23-4F3D-AC02-A995CE3AB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7D15A-893B-45D6-BF62-9F4870585B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5F277-BBE9-435F-B7EA-E438CBB6BD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7DCB34-875B-4A45-A682-1B089F902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79341-FC9F-4B9F-922D-A53D02139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1FABB-B9B6-4A64-8882-B86D2710D7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7388ED-04E0-4521-B028-35BBC433E1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6D96B5-FADE-4459-9089-D9BCA11A40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9C976F-891E-40FA-AE3F-3437BDEECA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44033-5D6C-4459-BA7D-B00069B8B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2EC11B-08C4-4017-89E5-F9A9D09CA3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958A0B-5E1A-4AD2-B074-9BFADC771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BEA85B-1451-4F8E-8D2C-68E5521498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44E95C-6C5C-4F4D-BEA7-647BF227E7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0C0ED8-96B9-4E1B-9244-33FC59264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799450-D638-40BF-8BB9-5069C83FA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D680DA-A0AA-4554-8AF1-D6BE0E78B1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E0094-077B-413B-9A4B-08361E229C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47678-707B-4318-8E7F-8E2D720AAF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22A08B-2D24-485D-B1FE-F1F5593501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21828-DD9C-482A-9D70-83B66524B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DEBB1F-67BC-4AF7-8CC3-3CF7AB6B75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D41471-8AC8-47A2-8103-7C81B37DD2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556679-2656-4AC1-9839-91DA763387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14DA9D-5978-4F33-AD88-7CC6C5E99B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2E219F-6852-4A7D-813D-565A216850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5ED037-2F4E-43AB-93FA-C2827910B3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680D86-0F46-45AB-8395-38AC7CB617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7B7F93-DE6C-40D1-9DEA-7F5A06563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C1793-15E2-4ADF-B998-F45A2FA26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0B42E-08DF-4C2F-B0A5-C0BAE149D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F6EEE-ABDD-4358-8D9A-9768157C0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307BA9-A196-48B5-8D05-0E3364B224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6364A7-725C-4B2C-A6F2-C1A92F0114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491FE2-AF18-4723-B470-6FE6CD5FE0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A3A9B0-3FB3-486C-9576-EDAD458B5C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37FD8F-82ED-44B1-B7CF-D801003BC1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35A71F-C714-4AA1-86FB-AB7E479EC7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00EB9B-6199-4567-902D-C09D434798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D97CB2-0CB4-47E8-AD5D-D5EEC362EB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CBFC2A-B892-4E5F-91A7-3085276003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2474AF-190A-4A64-BE83-A32DC3E1FA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D429E-63B3-4DAF-9FAC-6A6FE7970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355DB-F9C4-440D-A69C-C291923C22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51ED7-6DC0-45BC-A6CA-29955B1F76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2A0906-8E47-47AA-ACE8-5417E2FDE0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01D81C-42BF-4098-89AA-43981BDF73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34A096-C7E1-423D-9D4D-700A54835A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9E886-C23F-4C27-8DFD-7BA34B1F0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E232-10EE-45D3-BC5E-AEEB371A589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CCDE-AC71-4F72-B7D4-C9F11087538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AC47-DB9B-44F3-BC60-D24141BF4B8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66A4-CB68-486E-9961-B18DCE18AEF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E1DB-4BAB-4670-BA29-4139BEF0BA6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204E-6598-44CB-A28C-98ED6959418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6F8C-76C2-467B-A446-3039757F9EE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038120" y="304920"/>
            <a:ext cx="2057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JES</a:t>
            </a:r>
            <a:endParaRPr b="0" lang="en-US" sz="4000" spc="-1" strike="noStrike">
              <a:solidFill>
                <a:srgbClr val="c1eeff"/>
              </a:solidFill>
              <a:latin typeface="Consolas"/>
            </a:endParaRPr>
          </a:p>
        </p:txBody>
      </p:sp>
      <p:pic>
        <p:nvPicPr>
          <p:cNvPr id="395" name="Picture 2" descr=""/>
          <p:cNvPicPr/>
          <p:nvPr/>
        </p:nvPicPr>
        <p:blipFill>
          <a:blip r:embed="rId1"/>
          <a:stretch/>
        </p:blipFill>
        <p:spPr>
          <a:xfrm>
            <a:off x="1143000" y="1219320"/>
            <a:ext cx="6710400" cy="516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ow to start</a:t>
            </a: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def</a:t>
            </a:r>
            <a:r>
              <a:rPr b="0" lang="en-US" sz="3000" spc="-1" strike="noStrike">
                <a:solidFill>
                  <a:srgbClr val="ffffff"/>
                </a:solidFill>
                <a:latin typeface="Corbel"/>
              </a:rPr>
              <a:t> function()</a:t>
            </a:r>
            <a:r>
              <a:rPr b="0" lang="en-US" sz="3000" spc="-1" strike="noStrike">
                <a:solidFill>
                  <a:srgbClr val="ffff00"/>
                </a:solidFill>
                <a:latin typeface="Corbel"/>
              </a:rPr>
              <a: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	</a:t>
            </a:r>
            <a:r>
              <a:rPr b="0" lang="en-US" sz="3000" spc="-1" strike="noStrike">
                <a:solidFill>
                  <a:srgbClr val="ffff00"/>
                </a:solidFill>
                <a:latin typeface="Corbel"/>
              </a:rPr>
              <a:t>print </a:t>
            </a:r>
            <a:r>
              <a:rPr b="0" lang="en-US" sz="3000" spc="-1" strike="noStrike">
                <a:solidFill>
                  <a:srgbClr val="ffffff"/>
                </a:solidFill>
                <a:latin typeface="Corbel"/>
              </a:rPr>
              <a:t>“Hello World”</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def</a:t>
            </a:r>
            <a:r>
              <a:rPr b="0" lang="en-US" sz="3000" spc="-1" strike="noStrike">
                <a:solidFill>
                  <a:srgbClr val="ffffff"/>
                </a:solidFill>
                <a:latin typeface="Corbel"/>
              </a:rPr>
              <a:t> otherFunction()</a:t>
            </a:r>
            <a:r>
              <a:rPr b="0" lang="en-US" sz="3000" spc="-1" strike="noStrike">
                <a:solidFill>
                  <a:srgbClr val="ffff00"/>
                </a:solidFill>
                <a:latin typeface="Corbel"/>
              </a:rPr>
              <a: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	</a:t>
            </a:r>
            <a:r>
              <a:rPr b="0" lang="en-US" sz="3000" spc="-1" strike="noStrike">
                <a:solidFill>
                  <a:srgbClr val="ffff00"/>
                </a:solidFill>
                <a:latin typeface="Corbel"/>
              </a:rPr>
              <a:t>print </a:t>
            </a:r>
            <a:r>
              <a:rPr b="0" lang="en-US" sz="3000" spc="-1" strike="noStrike">
                <a:solidFill>
                  <a:srgbClr val="ffffff"/>
                </a:solidFill>
                <a:latin typeface="Corbel"/>
              </a:rPr>
              <a:t>“Hello World Again!”</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Right Arrow 3"/>
          <p:cNvSpPr/>
          <p:nvPr/>
        </p:nvSpPr>
        <p:spPr>
          <a:xfrm>
            <a:off x="1066680" y="2514600"/>
            <a:ext cx="304920" cy="304920"/>
          </a:xfrm>
          <a:prstGeom prst="rightArrow">
            <a:avLst>
              <a:gd name="adj1" fmla="val 50000"/>
              <a:gd name="adj2" fmla="val 50000"/>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9" name="TextBox 4"/>
          <p:cNvSpPr/>
          <p:nvPr/>
        </p:nvSpPr>
        <p:spPr>
          <a:xfrm>
            <a:off x="2971800" y="5029200"/>
            <a:ext cx="36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dentation groups statements together</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97">
                                            <p:txEl>
                                              <p:pRg st="3" end="3"/>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97">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nd then…</a:t>
            </a:r>
            <a:endParaRPr b="0" lang="en-US" sz="4000" spc="-1" strike="noStrike">
              <a:solidFill>
                <a:srgbClr val="c1eeff"/>
              </a:solidFill>
              <a:latin typeface="Consolas"/>
            </a:endParaRPr>
          </a:p>
        </p:txBody>
      </p:sp>
      <p:sp>
        <p:nvSpPr>
          <p:cNvPr id="40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ave then LOA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ll your functio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ass Exercise</a:t>
            </a: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efine a function(using the def keyword) called Lab1Program</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reate a variable called name and place in it your name, e.g. name = “Maha”</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rint out the statement: “My name is “ + name</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reate a new variable called myNum, place the value 5.5 in it</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alculate the value of myNum*4, place the answer in the variable myNum</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rint out myNum+3</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lgorithms</a:t>
            </a:r>
            <a:endParaRPr b="0" lang="en-US" sz="4000" spc="-1" strike="noStrike">
              <a:solidFill>
                <a:srgbClr val="c1eeff"/>
              </a:solidFill>
              <a:latin typeface="Consolas"/>
            </a:endParaRPr>
          </a:p>
        </p:txBody>
      </p:sp>
      <p:sp>
        <p:nvSpPr>
          <p:cNvPr id="377" name=""/>
          <p:cNvSpPr txBox="1"/>
          <p:nvPr/>
        </p:nvSpPr>
        <p:spPr>
          <a:xfrm>
            <a:off x="914040" y="1784520"/>
            <a:ext cx="335268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a:t>
            </a:r>
            <a:r>
              <a:rPr b="1" lang="en-US" sz="3000" spc="-1" strike="noStrike">
                <a:solidFill>
                  <a:srgbClr val="ffff00"/>
                </a:solidFill>
                <a:latin typeface="Corbel"/>
              </a:rPr>
              <a:t>sequenc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of instructions</a:t>
            </a:r>
            <a:endParaRPr b="0" lang="en-US" sz="3000" spc="-1" strike="noStrike">
              <a:solidFill>
                <a:srgbClr val="ffffff"/>
              </a:solidFill>
              <a:latin typeface="Corbel"/>
            </a:endParaRPr>
          </a:p>
        </p:txBody>
      </p:sp>
      <p:sp>
        <p:nvSpPr>
          <p:cNvPr id="378" name="TextBox 3"/>
          <p:cNvSpPr/>
          <p:nvPr/>
        </p:nvSpPr>
        <p:spPr>
          <a:xfrm>
            <a:off x="4724280" y="1371600"/>
            <a:ext cx="38102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1. Preheat oven to 350 degrees F (175 degrees C). Grease and flour a 9x9 inch pan or line a muffin pan with paper liners.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2. In a medium bowl, cream together the sugar and butter. Beat in the eggs, one at a time, then stir in the vanilla. 3.Combine flour and baking powder, add to the creamed mixture and mix well. Finally stir in the milk until batter is smooth. Pour or spoon batter into the prepared pan.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4. Bake for 30 to 40 minutes in the preheated oven. Cake is done when it springs back to the touch.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pic>
        <p:nvPicPr>
          <p:cNvPr id="379" name="Picture 2" descr=""/>
          <p:cNvPicPr/>
          <p:nvPr/>
        </p:nvPicPr>
        <p:blipFill>
          <a:blip r:embed="rId1"/>
          <a:stretch/>
        </p:blipFill>
        <p:spPr>
          <a:xfrm>
            <a:off x="5067360" y="1504800"/>
            <a:ext cx="3085920" cy="4210200"/>
          </a:xfrm>
          <a:prstGeom prst="rect">
            <a:avLst/>
          </a:prstGeom>
          <a:ln w="0">
            <a:noFill/>
          </a:ln>
        </p:spPr>
      </p:pic>
    </p:spTree>
  </p:cSld>
  <p:transition>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7" dur="500"/>
                                        <p:tgtEl>
                                          <p:spTgt spid="377">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10" dur="500"/>
                                        <p:tgtEl>
                                          <p:spTgt spid="377">
                                            <p:txEl>
                                              <p:pRg st="3" end="3"/>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par>
                                <p:cTn id="15" nodeType="withEffect" fill="hold" presetClass="entr" presetID="2" presetSubtype="4">
                                  <p:stCondLst>
                                    <p:cond delay="0"/>
                                  </p:stCondLst>
                                  <p:childTnLst>
                                    <p:set>
                                      <p:cBhvr>
                                        <p:cTn id="16" dur="1" fill="hold">
                                          <p:stCondLst>
                                            <p:cond delay="0"/>
                                          </p:stCondLst>
                                        </p:cTn>
                                        <p:tgtEl>
                                          <p:spTgt spid="378"/>
                                        </p:tgtEl>
                                        <p:attrNameLst>
                                          <p:attrName>style.visibility</p:attrName>
                                        </p:attrNameLst>
                                      </p:cBhvr>
                                      <p:to>
                                        <p:strVal val="visible"/>
                                      </p:to>
                                    </p:set>
                                    <p:anim calcmode="lin" valueType="num">
                                      <p:cBhvr additive="base">
                                        <p:cTn id="17" dur="500" fill="hold"/>
                                        <p:tgtEl>
                                          <p:spTgt spid="378"/>
                                        </p:tgtEl>
                                        <p:attrNameLst>
                                          <p:attrName>ppt_x</p:attrName>
                                        </p:attrNameLst>
                                      </p:cBhvr>
                                      <p:tavLst>
                                        <p:tav tm="0">
                                          <p:val>
                                            <p:strVal val="#ppt_x"/>
                                          </p:val>
                                        </p:tav>
                                        <p:tav tm="100000">
                                          <p:val>
                                            <p:strVal val="#ppt_x"/>
                                          </p:val>
                                        </p:tav>
                                      </p:tavLst>
                                    </p:anim>
                                    <p:anim calcmode="lin" valueType="num">
                                      <p:cBhvr additive="base">
                                        <p:cTn id="18" dur="500" fill="hold"/>
                                        <p:tgtEl>
                                          <p:spTgt spid="378"/>
                                        </p:tgtEl>
                                        <p:attrNameLst>
                                          <p:attrName>ppt_y</p:attrName>
                                        </p:attrNameLst>
                                      </p:cBhvr>
                                      <p:tavLst>
                                        <p:tav tm="0">
                                          <p:val>
                                            <p:strVal val="1+#ppt_h/2"/>
                                          </p:val>
                                        </p:tav>
                                        <p:tav tm="100000">
                                          <p:val>
                                            <p:strVal val="#ppt_y"/>
                                          </p:val>
                                        </p:tav>
                                      </p:tavLst>
                                    </p:anim>
                                  </p:childTnLst>
                                </p:cTn>
                              </p:par>
                              <p:par>
                                <p:cTn id="19" nodeType="withEffect" fill="hold" presetClass="entr" presetID="1">
                                  <p:stCondLst>
                                    <p:cond delay="0"/>
                                  </p:stCondLst>
                                  <p:childTnLst>
                                    <p:set>
                                      <p:cBhvr>
                                        <p:cTn id="20" dur="1" fill="hold">
                                          <p:stCondLst>
                                            <p:cond delay="0"/>
                                          </p:stCondLst>
                                        </p:cTn>
                                        <p:tgtEl>
                                          <p:spTgt spid="37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79"/>
                                        </p:tgtEl>
                                        <p:attrNameLst>
                                          <p:attrName>style.visibility</p:attrName>
                                        </p:attrNameLst>
                                      </p:cBhvr>
                                      <p:to>
                                        <p:strVal val="visible"/>
                                      </p:to>
                                    </p:set>
                                  </p:childTnLst>
                                </p:cTn>
                              </p:par>
                              <p:par>
                                <p:cTn id="25" nodeType="withEffect" fill="hold" presetClass="exit" presetID="1">
                                  <p:stCondLst>
                                    <p:cond delay="0"/>
                                  </p:stCondLst>
                                  <p:childTnLst>
                                    <p:set>
                                      <p:cBhvr>
                                        <p:cTn id="26" dur="1" fill="hold">
                                          <p:stCondLst>
                                            <p:cond delay="0"/>
                                          </p:stCondLst>
                                        </p:cTn>
                                        <p:tgtEl>
                                          <p:spTgt spid="3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09680" y="2819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mputers are dumb</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anguage</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int: its not English</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Jython</a:t>
            </a:r>
            <a:endParaRPr b="0" lang="en-US" sz="4000" spc="-1" strike="noStrike">
              <a:solidFill>
                <a:srgbClr val="c1eeff"/>
              </a:solidFill>
              <a:latin typeface="Consolas"/>
            </a:endParaRPr>
          </a:p>
        </p:txBody>
      </p:sp>
      <p:pic>
        <p:nvPicPr>
          <p:cNvPr id="384" name="Picture 3" descr="C:\jes-3-1-windows.1\jes-3-1\images\JESsplash-v3.png"/>
          <p:cNvPicPr/>
          <p:nvPr/>
        </p:nvPicPr>
        <p:blipFill>
          <a:blip r:embed="rId1"/>
          <a:stretch/>
        </p:blipFill>
        <p:spPr>
          <a:xfrm>
            <a:off x="2590920" y="2666880"/>
            <a:ext cx="4165560" cy="3124440"/>
          </a:xfrm>
          <a:prstGeom prst="rect">
            <a:avLst/>
          </a:prstGeom>
          <a:ln w="0">
            <a:noFill/>
          </a:ln>
        </p:spPr>
      </p:pic>
      <p:sp>
        <p:nvSpPr>
          <p:cNvPr id="385" name="TextBox 5"/>
          <p:cNvSpPr/>
          <p:nvPr/>
        </p:nvSpPr>
        <p:spPr>
          <a:xfrm>
            <a:off x="3352680" y="1905120"/>
            <a:ext cx="2514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ython in Java</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son 1: “Hello World!”</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print</a:t>
            </a:r>
            <a:r>
              <a:rPr b="0" lang="en-US" sz="3000" spc="-1" strike="noStrike">
                <a:solidFill>
                  <a:srgbClr val="ffffff"/>
                </a:solidFill>
                <a:latin typeface="Corbel"/>
              </a:rPr>
              <a:t> “Hello World”</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son 2: Data Typ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ger</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4,-2,100</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loat</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4.878, 2.0</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ring</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
            </a:r>
            <a:r>
              <a:rPr b="0" lang="en-US" sz="2600" spc="-1" strike="noStrike">
                <a:solidFill>
                  <a:srgbClr val="ffffff"/>
                </a:solidFill>
                <a:latin typeface="Corbel"/>
              </a:rPr>
              <a:t>Hello!123#$”</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son 3: Variables</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ore dat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Jython gets i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Hi”</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 5.67</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2</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Quick Test</a:t>
            </a:r>
            <a:endParaRPr b="0" lang="en-US" sz="4000" spc="-1" strike="noStrike">
              <a:solidFill>
                <a:srgbClr val="c1eeff"/>
              </a:solidFill>
              <a:latin typeface="Consolas"/>
            </a:endParaRPr>
          </a:p>
        </p:txBody>
      </p:sp>
      <p:sp>
        <p:nvSpPr>
          <p:cNvPr id="393" name=""/>
          <p:cNvSpPr txBox="1"/>
          <p:nvPr/>
        </p:nvSpPr>
        <p:spPr>
          <a:xfrm>
            <a:off x="914400" y="1447920"/>
            <a:ext cx="7772400" cy="495288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3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Hello” + “  “ + “World” + “!”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 + “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 + 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 * 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5/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 5</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print x*3</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6:51:38Z</dcterms:created>
  <dc:creator>mshouman</dc:creator>
  <dc:description/>
  <dc:language>en-US</dc:language>
  <cp:lastModifiedBy>mshouman</cp:lastModifiedBy>
  <dcterms:modified xsi:type="dcterms:W3CDTF">2009-03-04T20:47:49Z</dcterms:modified>
  <cp:revision>56</cp:revision>
  <dc:subject/>
  <dc:title>Programming</dc:title>
</cp:coreProperties>
</file>